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8DB-E27B-4C72-9EB4-51047470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9BD-C1C4-412C-BB2D-6C6B91A8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54D-D794-40AE-BCB8-F0DF431F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CCD-2508-4FE8-8628-A204342A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E78-4FC9-43D9-BE34-5AFA51BD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D13-835C-498E-8FA2-51E57DAE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07F-C73E-4B96-8E72-0997AB73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D29-6AB3-4B89-A6C1-95258015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BD8-C608-4B8C-BE9D-754C9312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E62-A16B-4BD5-9603-7DACB68D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4EC-EEC9-4FE8-B511-C1FEBFB2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A0B-BFB9-4A23-98EE-A0A6CF9B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ED07-7EDB-4F88-A865-BDFDCF450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freeplaymusic.com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eb.mit.edu/invent/i-archive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84360" y="950760"/>
            <a:ext cx="603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6438960" y="789120"/>
            <a:ext cx="45864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7447680" y="3905640"/>
            <a:ext cx="4590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13560" y="4684680"/>
            <a:ext cx="16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1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.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19320" y="457200"/>
            <a:ext cx="7238880" cy="383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000000"/>
                    </a:gs>
                    <a:gs pos="100000">
                      <a:srgbClr val="ff6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am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000000"/>
                  </a:gs>
                  <a:gs pos="100000">
                    <a:srgbClr val="ff66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000000"/>
                    </a:gs>
                    <a:gs pos="100000">
                      <a:srgbClr val="ff6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000000"/>
                  </a:gs>
                  <a:gs pos="100000">
                    <a:srgbClr val="ff66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000000"/>
                    </a:gs>
                    <a:gs pos="100000">
                      <a:srgbClr val="ff6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000000"/>
                    </a:gs>
                    <a:gs pos="100000">
                      <a:srgbClr val="ff6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sketbal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000000"/>
                  </a:gs>
                  <a:gs pos="100000">
                    <a:srgbClr val="ff66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4495680"/>
            <a:ext cx="523800" cy="183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33480" y="4336920"/>
            <a:ext cx="1536840" cy="196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00800" y="228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094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830160"/>
            <a:ext cx="23623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w and Jubilat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/1/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Naismith"/>
          <p:cNvPicPr/>
          <p:nvPr/>
        </p:nvPicPr>
        <p:blipFill>
          <a:blip r:embed="rId2"/>
          <a:stretch/>
        </p:blipFill>
        <p:spPr>
          <a:xfrm>
            <a:off x="228600" y="762120"/>
            <a:ext cx="5715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98560" y="5675400"/>
            <a:ext cx="291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6172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sketball (G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7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-archiv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vention/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by a childhood gamed played by James Naismith called “Duck on a Rock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09, The first official basketball was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official intercollegiate basketball game was. played in 18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6, basketball became an olympic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fessional league is currently named the National Basketball Association (NB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rofessional game was played in 19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rofessional league was called the National Basketball League  (NB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ames Nai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Naismith was Canadian-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November 6, 186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McGill University in Mont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ued athletics, won Wick stead medals for best all around ath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a job at McGill as a P.E.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d November 28, 193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47Z</dcterms:created>
  <dc:creator>install</dc:creator>
  <dc:description/>
  <dc:language>en-US</dc:language>
  <cp:lastModifiedBy>install</cp:lastModifiedBy>
  <dcterms:modified xsi:type="dcterms:W3CDTF">2011-06-01T17:35:46Z</dcterms:modified>
  <cp:revision>11</cp:revision>
  <dc:subject/>
  <dc:title>Slide 1</dc:title>
</cp:coreProperties>
</file>